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1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2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4A9FF-6B1D-4ABD-BDC0-6EAD55E16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GOOD THING BECAUSE YOU DO NOT WANT HAIR TO GROW ON YOUR TONGUE OR FINGERNAILS ON YOUR 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TOUCHED ON POLYGENIC TRATIS AND THOSE WITH GENETIC AND EVIRONMENT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ARE GOING TO LOOK A BIT AT HOW DOES A CELL DECIDE WHAT KIND OF CELL IT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EGULATES WHAT GENES WILL BE TURNED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OPERATOR WAS THE PLAC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ATED REPRESSOR WOULD BIND TO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TRYPTOPHAN IN THE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LAC Z GENE THE REPRES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S ON THE DNA BETWEEN THE PROMOTOR SITE AND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ES NOT ALLOW THE POLYERASE TO MOVE D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MOLEUCLE AND TRANSCRIBE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REGULATE THE PRODUCTION OF B GALACTOSIDASE BY USING A REGULATORY PROTEIN CALLED A RE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RESSOR BINDS TO THE LAC Z GENE AT A SITE BETWEEN THE PROMOTER AND THE START OF THE CODING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TE THE REPRESSOR BINDS TO IS CALLED THE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REPRESSOR PROTEIN BINDS TO THE OPERATOR REGION IT BLOCKS THE POLYMERASE FROM TRANSCRIBING THE LAC Z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VER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REPRESSOR PROTEIN BINDS TO THE OPERAT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LOCKS THE POLYMERASE FROM TRANSCRIBING THE LAC Z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GALACTOSIDASE IS CALLED AN INDUCIBLE ENZYME BECAUSE IT IS MADE IN RESPONSE TO A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THERE IS LACTOSE IN THE MEDIUM IT IS TAKEN UP BY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 COLI CELL TAKES UP LACTOSE THE LACT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ACTIVATE THE REPRESSOR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IT CAN NOT BIND TO THE OPERAT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RNA POLYMERASE CAN BIND TO THE PROMOTER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OVE DOWN AND TRANSCRIBE THE LAC Z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GENE IS TRANSCRIBED IT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TA GALACTOSIDAS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E AND MONOD PROPOSED THIS MECHANISM IN 19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PENT THE NEXT 6 YEARS TRYING TO ISOL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USIVE REPRESSOR MOLECULE FROM E CO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PROVE THEI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EVER F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7 GILBER AND MULLER FINALLY ISOLATED REPRESSO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NGLE E COLI ONLY HAS ABOUT 5 - 10 MOLECULES OF LAC RE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 OPERON REGULATED SYNTHESIS OF INDUCIBLE ENZY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ACTOSE IS PRESENT IN THE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NACTIVATES THE REPRESSOR SO THE GENE CAN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D ON AND MAKE THE ENZYME THAT BREAKS DOWN LACT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GALACTOSIDASE IS AN INDUCIBLE ENZY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MADE IN RESPONSE TO THE PRESENCE OF LACT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RN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 WHY WE SPENT SO MUCH TIME ON HOW PROTEINS ARE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THE INSULIN GENE IN ALL YOUR CELLS BUT IT IS ONLY EXPRESSED OR TRANSCRIBED BY CELLS IN THE PA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Y SKIN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A8EA3-F717-4CF2-BD53-48654DD5F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514520" y="912960"/>
            <a:ext cx="4286160" cy="3214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LICING EVENTS OCCUR DURING DIFFERENT STAGES OF DEVELOPMENT  OR IN DIFFERE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GENE AND ITS TRANSCR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TRANSCIRPTION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FOR THE CONTROL OF GENE EXPRESSION IN EUKARYOT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E COL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like to 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EAT YOU NEED ENZYMES TO BREAK DOWN THE FOOD YOU 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ENZYME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EAK D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GLUCOSE AND LACT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LUCOSE AND LACTO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9223B-9758-4276-9953-534D44D2B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514520" y="912960"/>
            <a:ext cx="4286160" cy="3214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CHICKEN MAC NUGGETS AND A MILKSHAKE YOUR ECOLI WILL BE VERY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F UP ALL THE AA IN TRYTOP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LOOK AT HOW THEY D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615E3-871D-4278-9F7C-CD053CF69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514520" y="912960"/>
            <a:ext cx="4286160" cy="3214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T CONTROL  WHEN TO DO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IT NOT DO THIS IF TRYPTOPHAN IS PRESENT IN THE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OULD BE A WASTE TO DO IT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2374B-E680-4D4D-BCC9-DF8C73220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514520" y="912960"/>
            <a:ext cx="4286160" cy="3214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NVIRONMENT LACKS TRY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TO ACTIVATE THE REPRES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RNA POLYMERASE BINDS TO THE PROMOTER REGION AND MAKES T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YPTOPHAN IS PRESENT IN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INDS TO THE REPRESSOR WHICH IS THEN ACTIV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N BIND TO THE OPERATOR REGION AND BL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CRIPTION OF THE TRP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TRYP GENE CODES FOR THE SYNTHESIS OF TRYPTOP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BF7-20FD-42E3-A5D6-AA503942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020-4BE7-409E-9100-62ED15A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D34-BC33-41F8-B5C7-BCDCBB18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093-BCC3-469A-ABFA-658A6E40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108B-AB6C-4799-898D-C6938AB0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F0EC-B095-4E2B-9D6F-F4A11C87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1478-6B56-419A-BD8C-8F13DFD6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FBD6-D232-498C-9001-7E99C99B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5ACB-7B2F-44DB-8F8C-BEE1631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0105-DCAB-4A6A-98E1-3485E46A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6711-AF57-4BFC-B87A-51AE526B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DB2-2D67-4BA0-AA8C-6AD033C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8DA9-6776-4AE4-93CA-CD981DB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8A4B-549D-40EF-A94C-B04772F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A1A3-0C7A-4715-99F4-A17F457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F2EF-0B06-4150-B77D-CBFD1B93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1D90-A19F-4682-BDD6-964F6698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350A-78E7-4932-97C3-CFB4B06E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1DC0-87AA-476B-899B-7609D669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49D0-E5F6-4EF4-8490-AAC96074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4C8F-39D0-46E3-B457-63EBBA5E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0CF4-8287-4E3A-9646-43D01279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532-9A3D-472E-8001-797A119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E541-F012-4545-863A-94CAE9B8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BC37-32AE-4381-BA85-A24B8AA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6308-1B0D-486A-8AFA-0773DF0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DD1D-4C92-448E-A923-9D43D52F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8C4F-3484-418A-8360-7C3F3F76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D162-53A1-4231-A6A7-77CF2752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28FF-FFF4-40A8-B403-319DE1C0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DBC-025D-4AF8-874A-F3563D4B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70C-B2C6-4976-A03A-8F9F713F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903-D92F-4E53-A7C7-3C83B0E4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350-8207-4645-B3A1-EEB53C4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61A-8482-4802-A35E-E9DB28B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23B-7A1F-41E5-9AFE-E18FA11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F9CF-13B5-421A-AB45-CB26EA4BFF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49E8-AB5A-4219-BFE9-5218BDB0FE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484C-697A-44D3-8EDD-4FB8781D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tually every cell in your body contains a complete set of gen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they are not all turned on in every tissu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cell in your body expresses only a small subset of genes at any ti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ing development different cells express different sets of genes in a precisely regulated fash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81528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81528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81528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81528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acteria only need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ta galactosida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f there is lactose in the environment to dige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no point in making the enzyme if there is no lactose sugar to break dow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combination of the promoter and the DNA that regulate when a gene will be transcrib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 combination of a promoter and a gene is called an</a:t>
            </a:r>
            <a:r>
              <a:rPr b="1" lang="en-US" sz="36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PERON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peron is a cluster of genes encoding related enzymes that are regulated togethe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peron consists of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A promoter site where RNA polyerase binds and begins transcribing the messa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A region that makes a repress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ressor sits on the DNA at a spot between the promoter and the gene to be transcrib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is site is called the operat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11783" t="62870" r="3923" b="60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LAC Z GE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egulate the production of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ta Galactocida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y using a regulatory protein called a </a:t>
            </a:r>
            <a:r>
              <a:rPr b="1" lang="en-US" sz="3200" spc="-1" strike="noStrike" u="sng">
                <a:solidFill>
                  <a:srgbClr val="ccff66"/>
                </a:solidFill>
                <a:uFillTx/>
                <a:latin typeface="Arial"/>
              </a:rPr>
              <a:t>repress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pressor binds to the lac Z gene at a site between the promotor and the start of the coding sequ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ite the repressor binds to is called the operat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10806" t="15909" r="12742" b="29556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LAC Z GE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rmally the repressor sits on the operator repressing transcription of the lac Z gen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he presence of lactose the repressor binds to the sugar and this allows the polymerase to move down the lac Z gen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LAC Z GE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is results in the production of beta galactosidase which breaks down the suga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en there is no sugar left the repressor will return to its spot on the chromosome and stop the transcription of the lac Z gen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rcRect l="6883" t="15909" r="4900" b="128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40384" t="53669" r="12404" b="27158"/>
          <a:stretch/>
        </p:blipFill>
        <p:spPr>
          <a:xfrm rot="21573000">
            <a:off x="-1440" y="893880"/>
            <a:ext cx="91440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regulation occurs at the level of transcription or production of mR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given cell transcribes only a specific set of genes and not oth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ulin is made by pancreatic cel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eukaryotic organisms like ourselves there are several methods of regulating protein produc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regulatory sequences are found upstream from the promo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s are controlled by regulatory elements in the promoter region that act like one/off switches or dimmer switch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ic transcription factors bind to these regulatory elements and regulate transcrip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ory elements may be tissue specific and will activate their gene only in one kind of tissu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times the expression of a gene requires the function of two or more different regulatory elem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INTRONS AND EX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ukaryotic DNA differs from prokaryotic DNA it that the coding sequences along the gene are interspersed with noncoding sequen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coding sequences are calle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non coding sequences are call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INTRONS AND EX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fter the initial transcript is produced the introns are spliced out to form the completed message ready for transl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trons can be very large and numerous, so some genes are much bigger than the final processed mR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INTRONS AND EXON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uscular dystroph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MD gene is about 2.5 million base pairs lo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as more than 70 intr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final mRNA is only about 17,000 base pairs lo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53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ff66"/>
                </a:solidFill>
                <a:uFillTx/>
                <a:latin typeface="Arial"/>
              </a:rPr>
              <a:t>RNA Splicing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6680" y="1109160"/>
            <a:ext cx="7697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Provides a point where the expression of a gene can be controlled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Exons can be spliced together in different ways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This allows a variety of different polypeptides to be assembled from the same gene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Arial"/>
              </a:rPr>
              <a:t>Alternate splicing is common in insects and vertebrates, where 2 or 3 different proteins are produced from one gene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rcRect l="15702" t="5304" r="23525" b="380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rcRect l="27466" t="9846" r="26466" b="6077"/>
          <a:stretch/>
        </p:blipFill>
        <p:spPr>
          <a:xfrm>
            <a:off x="182880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CENTRAL DOGM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tic information always goes from DNA to RNA to prote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regulation has been well studied in E. col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n a bacterial cell encounters a potential food source it will manufacture the enzymes necessary to metabolize that food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53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c893e"/>
                </a:solidFill>
                <a:uFillTx/>
                <a:latin typeface="Arial"/>
              </a:rPr>
              <a:t>Gene Regulation</a:t>
            </a:r>
            <a:endParaRPr b="0" lang="en-US" sz="3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7040" y="1109160"/>
            <a:ext cx="75916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3120" indent="-303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1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addition to sugars like glucose and lactose E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. coli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s also require amino acids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03120" indent="-303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2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e essential aa is tryptophan.  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031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03120" indent="-303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3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n E. </a:t>
            </a: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li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is swimming in tryptophan (milk &amp; poultry) it will absorb the amino acids from the media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  <a:p>
            <a:pPr marL="303120" indent="-303120">
              <a:lnSpc>
                <a:spcPct val="90000"/>
              </a:lnSpc>
              <a:spcBef>
                <a:spcPts val="774"/>
              </a:spcBef>
              <a:buSzPct val="102768"/>
              <a:buBlip>
                <a:blip r:embed="rId4"/>
              </a:buBlip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n tryptophan is not present in the media then the cell must manufacture its’ own amino acids</a:t>
            </a:r>
            <a:endParaRPr b="0" lang="en-US" sz="31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53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ccff66"/>
                </a:solidFill>
                <a:uFillTx/>
                <a:latin typeface="Arial"/>
              </a:rPr>
              <a:t>Trp</a:t>
            </a:r>
            <a:r>
              <a:rPr b="1" lang="en-US" sz="3300" spc="-1" strike="noStrike" u="sng">
                <a:solidFill>
                  <a:srgbClr val="ccff66"/>
                </a:solidFill>
                <a:uFillTx/>
                <a:latin typeface="Arial"/>
              </a:rPr>
              <a:t> Operon</a:t>
            </a:r>
            <a:endParaRPr b="0" lang="en-US" sz="33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728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cff66"/>
                </a:solidFill>
                <a:latin typeface="Arial"/>
              </a:rPr>
              <a:t>E. coli</a:t>
            </a:r>
            <a:r>
              <a:rPr b="1" lang="en-US" sz="2700" spc="-1" strike="noStrike">
                <a:solidFill>
                  <a:srgbClr val="ccff66"/>
                </a:solidFill>
                <a:latin typeface="Arial"/>
              </a:rPr>
              <a:t> uses several proteins encoded by a cluster of 5 genes to manufacture the amino acid tryptophan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ff66"/>
                </a:solidFill>
                <a:latin typeface="Arial"/>
              </a:rPr>
              <a:t>All 5 genes are transcribed together as a unit called an operon, which produces a single long piece of mRNA for all the genes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ff66"/>
                </a:solidFill>
                <a:latin typeface="Arial"/>
              </a:rPr>
              <a:t>RNA polymerase binds to a promoter located at the beginning of the first gene and proceeds down the DNA transcribing the genes in sequence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-83520" y="-5076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Fig. 16.6</a:t>
            </a:r>
            <a:endParaRPr b="0" lang="en-US" sz="13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08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 addition to amino acids, 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E. coli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cells also metabolize sugars in their environment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 1959 Jacques Monod and Fracois Jacob looked at the ability of 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E. coli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ells to digest the sugar lactos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87244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GENE REGUL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n the presence of the sugar lactose,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akes an enzyme called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eta galactosida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eta galactosidase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breaks down the sugar lactose so the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can digest it for fo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t is the LAC Z gene in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 col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that codes for the enzyme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beta galactosida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008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Lac Z Ge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005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tryptophane gene is turned on when there is no tryptophan in the med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at is when the cell wants to make its’ own tryptoph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Arial"/>
              </a:rPr>
              <a:t>E. col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cells can not make the sugar lacto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y can only have lactose when it is present in their enviro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n they turn on genes to beak down lacto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20:21:05Z</dcterms:created>
  <dc:creator>Rob Walkinshaw</dc:creator>
  <dc:description/>
  <dc:language>en-US</dc:language>
  <cp:lastModifiedBy>Dennis Passovoy</cp:lastModifiedBy>
  <cp:lastPrinted>2006-02-18T21:49:14Z</cp:lastPrinted>
  <dcterms:modified xsi:type="dcterms:W3CDTF">2007-01-10T03:11:27Z</dcterms:modified>
  <cp:revision>58</cp:revision>
  <dc:subject/>
  <dc:title>GENE REGULATION</dc:title>
</cp:coreProperties>
</file>